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32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19720"/>
            <a:ext cx="84232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1972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7680" y="441972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240" y="188136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6840" y="188136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1972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240" y="441972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6840" y="441972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328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32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552240"/>
            <a:ext cx="842328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441972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328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7680" y="441972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4419720"/>
            <a:ext cx="84232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32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4419720"/>
            <a:ext cx="84232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441972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7680" y="441972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240" y="188136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6840" y="188136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441972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240" y="441972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6840" y="4419720"/>
            <a:ext cx="27118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32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552240"/>
            <a:ext cx="842328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1972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7680" y="441972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1881360"/>
            <a:ext cx="41104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19720"/>
            <a:ext cx="84232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32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22520"/>
            <a:ext cx="1655640" cy="5235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3080" y="2130120"/>
            <a:ext cx="708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73080" y="2130120"/>
            <a:ext cx="708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1-Wire</a:t>
            </a:r>
            <a:r>
              <a:rPr b="1" lang="en-GB" sz="3600" spc="-1" strike="noStrike" baseline="42000">
                <a:solidFill>
                  <a:srgbClr val="ffebd5"/>
                </a:solidFill>
                <a:latin typeface="Trebuchet MS"/>
              </a:rPr>
              <a:t>®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9800" y="4082760"/>
            <a:ext cx="7089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ndard 1-Wire</a:t>
            </a:r>
            <a:r>
              <a:rPr b="0" lang="en-GB" sz="2000" spc="-1" strike="noStrike" baseline="42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zwany też czasami siecią MicroLAN,  oznacza technologię zaprojektowaną i rozwijaną przez firmę Dallas Semiconductor polegającą na cyfrowej transmisji danych pomiędzy urządzeniem nadrzędnym (master) z jednym lub wieloma urządzeniami podrzędnymi (slave) opierając się na komunikacji jednoprzewodowej (1-Wire bus), przy użyciu dwukierunkowego, szeregowego protokołu 1-Wire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504720"/>
            <a:ext cx="8424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Struktura (Topologia) sieci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88100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ieci 1-Wire mogą mieć w zasadzie dowolna strukturę, zwykle są dopasowane do jednej kilku podstawowych kategorii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opologia liniowa (linear topology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opologia gwiazdy (star topology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28760" y="3578400"/>
            <a:ext cx="4790880" cy="561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40000" y="5400720"/>
            <a:ext cx="4448160" cy="1019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Terminologia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1800" y="1981080"/>
          <a:ext cx="7718400" cy="41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981080"/>
                    <a:ext cx="77184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Przykład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881000"/>
            <a:ext cx="84247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la przykładu: sieć 1- Wire o topologii gwiazdy z trzema odgałęzieniami o długości 10m, 20m, 30m będzie miała promień sieci 30m (najdłuższy odcinek) i wagę sieci 60m (suma wszystkich odcinkow). Ogólnie można stwierdzić, że waga sieci ogranicza czas narastania sygnału w kablu, promień zaś ustala czasy odbić sygnałów. Z reguły żadna sieć 1-Wire nie może mieć wagi większej niż 750m. W praktyce jednak dodatkowe czynniki limitują promień do mniejszej wartości. Również urządzenia slave wprowadzają do sieci pewną wagę! Dla przykładu waga urządzeń slave produkowanych w formie iButton jest równa 1m (inne układy 0,5m)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Sieci przełączane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ała sieć jest dzielona na fragmenty które są pojedynczo podłączane przy użycie elektronicznego przełącznika 1-Wire (np. DS2409) co pozwala traktować fizycznie sieć jako pojedynczą strukturę topologiczną, natomiast elektrycznie stanowi ona oddzielne siec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50960" y="4140360"/>
            <a:ext cx="4829040" cy="2076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TCP/IP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ieć 1-Wire została zaprojektowana, biorąc pod uwagę prostotę połączeń i niskie koszty, jako sieć łącząca komputer PC lub mikrokontroler z urządzeniami 1-Wire typu slave realizującymi całą gamę różnych funkcji użytkowych – na przykła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kłady pamięci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zujniki (Sensory)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zetworniki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552240"/>
            <a:ext cx="84247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Elementy konfiguracji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88100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rządzenie nadrzędne (master) z oprogramowaniem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kontrolującym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ara przewodów (single twisted pair) z końcówkami do podłączenia urządzeń po której realizowana jest zarówno komunikacja cyfrowa jak i zasilanie urządzeń. Zalecany przewód to skrętka kategorii 5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rządzenia typu slave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rządzenie master inicjuje i kontroluje całkowicie działanie sieci 1-Wi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504720"/>
            <a:ext cx="8424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Szybkość transmisji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2644920" y="22906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88100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Zarówno urządzenie master jak i slave jest nadajnikiem-odbiornikiem pozwalającym przesyłać dane w obu kierunkach, ale tylko w jednym kierunku w tym samym czasi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ane są przesyłane sekwencyjnie bajt po bajcie w trybie half-duplex z najmniej znaczącym bitem bajtu jako pierwszym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ędkość przesyłu danych w trybie standard wynosi maksymalnie 16,3 kbps, w trybie overdrive do 115kbp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Implementacje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la systemów PC istnieją adaptery umożliwiające podłączenie portów komputera do magistrali 1-Wi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rządzenia typu slave produkowane są jako układy scalone zawierające dwa bloki funkcjonalne: moduł interfejsu 1-Wire i moduł realizujący odpowiednią funkcję np. pomiar temperatury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Oprócz modułów slave przeznaczonych do montażu na płytkach PCB istnieje cała grupa układów typu slave produkowanych w postaci metalowych „pastylek” pod nazwą iButton</a:t>
            </a:r>
            <a:r>
              <a:rPr b="0" lang="en-GB" sz="2400" spc="-1" strike="noStrike" baseline="21000">
                <a:solidFill>
                  <a:srgbClr val="000000"/>
                </a:solidFill>
                <a:latin typeface="Trebuchet MS"/>
              </a:rPr>
              <a:t>®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z odpowiednimi adapterami podłączanymi do sieci 1-Wire, umożliwiającymi szybkie podłączanie i rozłączanie modułów iButt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Warstwa fizyczna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otokół wykorzystany w sieci 1-Wire używa konwencjonalnych poziomów stosowanych w układach CMOS/TTL, gdzie poziom napięcia 0.8V i poniżej odpowiada stanowi logicznemu „0”, a napięcie 2.2V i wyżej reprezentuje logiczne „1”. Specyfikacja ta jest definiowana przy napięciu zasilania w zakresie 2.8V-6V. Rezystor podciągający (pull-up resistor) łączy linię danych sieci 1-Wire z napięciem zasilania +5V (weak pull-up) urządzenia maste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504720"/>
            <a:ext cx="8424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Porty master i slave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27320" y="1881000"/>
            <a:ext cx="411156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4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04760" y="2160720"/>
            <a:ext cx="331488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0000" y="2160720"/>
            <a:ext cx="3467160" cy="1933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04720"/>
            <a:ext cx="8424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Adresowanie w sieci </a:t>
            </a: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1-Wire</a:t>
            </a:r>
            <a:r>
              <a:rPr b="1" lang="en-GB" sz="3600" spc="-1" strike="noStrike" baseline="42000">
                <a:solidFill>
                  <a:srgbClr val="ffebd5"/>
                </a:solidFill>
                <a:latin typeface="Trebuchet MS"/>
              </a:rPr>
              <a:t>®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897200"/>
            <a:ext cx="810108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31640" indent="-21564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ażde urządzenie slave posiada unikatowy 64 bitowy adres zapisany w pamięci ROM, nadawany w procesie produkcji.  Na 64 bitowy adres składają się: 8 bitowy kod grupy (family code), 48 bitowy numer seryjny (serial code) i 8 bitowa suma kontrolna CRC siedmiu pierwszych bajtów. Suma kontrolna pozwala układowi master na sprawdzenie poprawności odczytu adresu urządz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360" y="5405400"/>
            <a:ext cx="499104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583920"/>
            <a:ext cx="8425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Transmisja w sieci 1-Wire</a:t>
            </a:r>
            <a:r>
              <a:rPr b="1" lang="en-GB" sz="3600" spc="-1" strike="noStrike">
                <a:solidFill>
                  <a:srgbClr val="ffebd5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>
            <a:off x="144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800360"/>
            <a:ext cx="79200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41240" indent="-284040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741240"/>
                <a:tab algn="l" pos="1655640"/>
                <a:tab algn="l" pos="2570040"/>
                <a:tab algn="l" pos="3484440"/>
                <a:tab algn="l" pos="4398840"/>
                <a:tab algn="l" pos="5313240"/>
                <a:tab algn="l" pos="6227640"/>
                <a:tab algn="l" pos="7142040"/>
                <a:tab algn="l" pos="8056440"/>
                <a:tab algn="l" pos="8970840"/>
                <a:tab algn="l" pos="9885240"/>
                <a:tab algn="l" pos="10799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ransfer danych po magistrali 1-Wire odbywa się szeregowo bit po bicie w zdefiniowanych oknach czasowych. Logiczną jedynkę reprezentuje impuls o niskim poziomie i czasie trwania maksimum 15µs (Write-ONE), logiczne zero natomiast impuls o niskim poziomie i czasie trwania minimum 60µs (Write-ZERO). Wszystkie impulsy są inicjowane i generowane przez układ m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41240"/>
                <a:tab algn="l" pos="1655640"/>
                <a:tab algn="l" pos="2570040"/>
                <a:tab algn="l" pos="3484440"/>
                <a:tab algn="l" pos="4398840"/>
                <a:tab algn="l" pos="5313240"/>
                <a:tab algn="l" pos="6227640"/>
                <a:tab algn="l" pos="7142040"/>
                <a:tab algn="l" pos="8056440"/>
                <a:tab algn="l" pos="8970840"/>
                <a:tab algn="l" pos="9885240"/>
                <a:tab algn="l" pos="10799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otokół 1-Wire nie przewiduje synchronizacji układów za pomocą sygnału zegarowego, stąd każdy moduł slave posiada wewnętrzny generator. Urządzenia 1-Wire używają opadającego zbocza sygnału do synchronizacji wewnętrznego układu czas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usz Pękala</dc:creator>
  <dc:description/>
  <dc:language>en-US</dc:language>
  <cp:lastModifiedBy>Janusz Pękala</cp:lastModifiedBy>
  <cp:revision>0</cp:revision>
  <dc:subject/>
  <dc:title>Sieć TCP/IP</dc:title>
</cp:coreProperties>
</file>